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5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EFC-8639-4D16-A8F3-EC9365E7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58F-21CB-4B35-AB85-CA3185EF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852-28E6-41DB-8FB6-C0B1132C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3BB5-78CA-4CCE-A04C-B98D2A58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1512-A519-43AA-8E50-7A77B041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C30C-C5E8-4365-8C6C-46A7F415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BD4-ABAD-41E0-9664-CAAEDDE6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A166-5BDE-40A7-9D22-EC137CDB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5372-6BEF-4AA2-88D5-B7CAF36A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5793-EAB9-4120-ADD9-DAEE39BD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9DC7-0ECA-4B3E-A6E4-F51425A8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624-69E9-4170-BED9-BE35A215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5E3-5CD3-4E90-A65A-59FA46DB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3D04-1A95-45E8-8509-0BE4375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9033-5F32-4EE5-AEFE-1211330F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4E7B-9F76-4512-A1FF-CA11EFF0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1675-BE2D-4ABA-9807-09D08802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09A-C0D9-41DE-BCF7-9E4DBA9D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A4F-4D65-49DA-989D-A0A14B4C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4D4-4B6D-4205-8F92-18EF0F98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5E9-CF72-4245-9479-C513B0AB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7D8-D737-42C2-B657-E8D69D7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E72-B914-4E1D-9304-CCE401F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BF1-1371-4448-9896-6E39AAF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23C2-70CF-4B8F-8342-DAA288C95B1C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6E86-00E0-473C-A015-E8D40A5F600D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5a867b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5a867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5a867b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391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a867b"/>
                </a:solidFill>
                <a:latin typeface="Tahoma"/>
              </a:rPr>
              <a:t>Our Goofy Model</a:t>
            </a:r>
            <a:endParaRPr b="0" lang="en-US" sz="5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047760"/>
            <a:ext cx="4724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a867b"/>
                </a:solidFill>
                <a:uFillTx/>
                <a:latin typeface="Tahoma"/>
              </a:rPr>
              <a:t>Presented by the Goof Troop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Carlos Andonair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Jane Agbontae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Uzo Enyinna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Vasudha Ramachandran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Meisha Robinso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4500" t="0" r="9001" b="0"/>
          <a:stretch/>
        </p:blipFill>
        <p:spPr>
          <a:xfrm>
            <a:off x="5878440" y="2743200"/>
            <a:ext cx="168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679840"/>
            <a:ext cx="7620120" cy="265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Back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209680"/>
            <a:ext cx="701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e Distanc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Back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010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Objective and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93432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The Kiosk Screen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15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The Kiosk Screen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359080"/>
            <a:ext cx="7848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Resul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3784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3403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a Fast Pass for The Haunted Mansion and ride Liberty Square Riverboat, Buzz Lightyear's Space Ranger Spin, Pirates of the Caribbean, and then The Haunted Man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anks from The Goof Troop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222200" y="51195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Tahoma"/>
              </a:rPr>
              <a:t>Now, we are going to Disney Wor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Improving Customer Service</a:t>
            </a: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Bob’s New Year’s Resolution is to improve customer satisfaction at the Walt Disney Parks. He’s hired the credible and ultra intelligent Goof Troop Consulting Firm to assist him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16668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657600" y="4571640"/>
            <a:ext cx="2895480" cy="978120"/>
            <a:chOff x="3657600" y="4571640"/>
            <a:chExt cx="2895480" cy="978120"/>
          </a:xfrm>
        </p:grpSpPr>
        <p:sp>
          <p:nvSpPr>
            <p:cNvPr id="91" name=""/>
            <p:cNvSpPr/>
            <p:nvPr/>
          </p:nvSpPr>
          <p:spPr>
            <a:xfrm>
              <a:off x="3657600" y="5181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a867b"/>
                  </a:solidFill>
                  <a:latin typeface="Arial"/>
                </a:rPr>
                <a:t>This is Bo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257800" y="4571640"/>
              <a:ext cx="1295280" cy="685800"/>
            </a:xfrm>
            <a:prstGeom prst="line">
              <a:avLst/>
            </a:prstGeom>
            <a:ln w="9360">
              <a:solidFill>
                <a:srgbClr val="5a86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appy, Grumpy, or Dopey…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ustomers don’t enjoy waiting in lines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Don’t know what rides to ride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ast Pass further complicates ride decision making.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434960" cy="1524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6162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74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Customers want the best experience and their money’s w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Goofy Fun Maximizer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mart Kiosks located around the park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Real-time information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Attraction waiting tim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Availability of Fast-pas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Index of customer satisfactio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Relative attraction distance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0" y="2438280"/>
            <a:ext cx="14158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762120" y="4800600"/>
            <a:ext cx="7619760" cy="992160"/>
            <a:chOff x="762120" y="4800600"/>
            <a:chExt cx="7619760" cy="992160"/>
          </a:xfrm>
        </p:grpSpPr>
        <p:sp>
          <p:nvSpPr>
            <p:cNvPr id="101" name=""/>
            <p:cNvSpPr/>
            <p:nvPr/>
          </p:nvSpPr>
          <p:spPr>
            <a:xfrm>
              <a:off x="762120" y="5272200"/>
              <a:ext cx="761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cc"/>
                  </a:solidFill>
                  <a:latin typeface="Tahoma"/>
                </a:rPr>
                <a:t>Personalized Goofy Fun Map and Sched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4152960" y="4610160"/>
              <a:ext cx="53352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a867b"/>
            </a:solidFill>
            <a:ln w="9360">
              <a:solidFill>
                <a:srgbClr val="d1b4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“Goof” of the Troop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8487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Tahoma"/>
              </a:rPr>
              <a:t>Our CEO advised us to use Excel Solver!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5" name="" descr="Emacs!"/>
          <p:cNvPicPr/>
          <p:nvPr/>
        </p:nvPicPr>
        <p:blipFill>
          <a:blip r:embed="rId1"/>
          <a:srcRect l="28571" t="27858" r="28571" b="17143"/>
          <a:stretch/>
        </p:blipFill>
        <p:spPr>
          <a:xfrm>
            <a:off x="3581280" y="2490840"/>
            <a:ext cx="1524240" cy="2614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8890" t="0" r="8890" b="21571"/>
          <a:stretch/>
        </p:blipFill>
        <p:spPr>
          <a:xfrm rot="2422200">
            <a:off x="4647960" y="233856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1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 Objectiv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Maximizing Fun!!! =  Highest Satisfaction Rating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419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867b"/>
                </a:solidFill>
                <a:latin typeface="Tahoma"/>
              </a:rPr>
              <a:t>The Goofy Model: Decision Variables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ll day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ide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ast-pas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ide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205272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15000" y="411012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7471" t="0" r="0" b="0"/>
          <a:stretch/>
        </p:blipFill>
        <p:spPr>
          <a:xfrm>
            <a:off x="4952880" y="3043080"/>
            <a:ext cx="1287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Constraint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ime availability is based on park hour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ast-pass imposes additional time restriction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Walking distanc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Queue tim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13600" y="3352680"/>
            <a:ext cx="20923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751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Demo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55:46Z</dcterms:created>
  <dc:creator>Vasudha</dc:creator>
  <dc:description/>
  <cp:keywords/>
  <dc:language>en-US</dc:language>
  <cp:lastModifiedBy>Vasudha</cp:lastModifiedBy>
  <dcterms:modified xsi:type="dcterms:W3CDTF">2006-12-04T19:04:3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33</vt:lpwstr>
  </property>
</Properties>
</file>